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F0A8-01D1-4A14-BF2B-DE3F470BA0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38E-5F4E-42CC-8F37-FFB0EE0098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D484-F302-473D-B199-C4119BFDE0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5D47-8AFD-4BC7-A143-8F8D075BD0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BB8A-D095-4008-A9E0-A4D5A6E82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3E22-13DB-4BAD-AD6D-2A3B0214BB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3581-1A16-461C-B15D-6C6DC417D2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5A0B-D8CB-4096-855E-5573254597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F6D1-56F4-4259-83A2-FF6D474DF4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C52-A0A4-4B71-9B3D-EC6CC3D5DF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493A-8ED3-45C8-ABB7-892D503F60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8B5-B7A7-44D3-9CB8-D1ADCE6A41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EFDF-EDAB-43B0-8453-3DA56DDC6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26FB-3073-4CB9-8FAD-304802FC2E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350F-3C7B-4AE0-B005-2A83B077B2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93E3-E39D-41D1-99FA-54E6A599D1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22CD-F7A5-4F90-9E56-DC9D01EBCB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AD99-34E6-4E3B-97AE-943BC33281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228A-A09E-48BC-905E-42178A5567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B5CF-FE34-464E-848A-0E22EAD70B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A450-64B6-4DAF-A2C7-8161DA06A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1FCB-25BC-4855-ACD4-ACCCE687BF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97F4-FC85-4F55-9DF1-1E3C25DEE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D932-4C58-4D27-8A23-3D4FCB375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ounded Rectangle 1"/>
          <p:cNvSpPr/>
          <p:nvPr/>
        </p:nvSpPr>
        <p:spPr>
          <a:xfrm>
            <a:off x="2139840" y="5003640"/>
            <a:ext cx="6597720" cy="1124280"/>
          </a:xfrm>
          <a:prstGeom prst="roundRect">
            <a:avLst>
              <a:gd name="adj" fmla="val 9894"/>
            </a:avLst>
          </a:prstGeom>
          <a:solidFill>
            <a:srgbClr val="80bae5"/>
          </a:solidFill>
          <a:ln w="9360">
            <a:solidFill>
              <a:srgbClr val="369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95a"/>
              </a:solidFill>
              <a:latin typeface="Arial"/>
            </a:endParaRPr>
          </a:p>
        </p:txBody>
      </p:sp>
      <p:pic>
        <p:nvPicPr>
          <p:cNvPr id="37" name="Picture 2" descr="nglcc_RGB-KO_name.wmf"/>
          <p:cNvPicPr/>
          <p:nvPr/>
        </p:nvPicPr>
        <p:blipFill>
          <a:blip r:embed="rId3"/>
          <a:stretch/>
        </p:blipFill>
        <p:spPr>
          <a:xfrm>
            <a:off x="2479680" y="1419120"/>
            <a:ext cx="4430880" cy="270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Rectangle 1"/>
          <p:cNvGrpSpPr/>
          <p:nvPr/>
        </p:nvGrpSpPr>
        <p:grpSpPr>
          <a:xfrm>
            <a:off x="-384120" y="-396720"/>
            <a:ext cx="9912240" cy="1749240"/>
            <a:chOff x="-384120" y="-396720"/>
            <a:chExt cx="9912240" cy="1749240"/>
          </a:xfrm>
        </p:grpSpPr>
        <p:pic>
          <p:nvPicPr>
            <p:cNvPr id="75" name="Rectangle 1" descr=""/>
            <p:cNvPicPr/>
            <p:nvPr/>
          </p:nvPicPr>
          <p:blipFill>
            <a:blip r:embed="rId2"/>
            <a:stretch/>
          </p:blipFill>
          <p:spPr>
            <a:xfrm>
              <a:off x="-384120" y="-396720"/>
              <a:ext cx="99122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</p:grpSp>
      <p:pic>
        <p:nvPicPr>
          <p:cNvPr id="77" name="Picture 2" descr="nglcc_RGB-KO_acronym.wmf"/>
          <p:cNvPicPr/>
          <p:nvPr/>
        </p:nvPicPr>
        <p:blipFill>
          <a:blip r:embed="rId3"/>
          <a:stretch/>
        </p:blipFill>
        <p:spPr>
          <a:xfrm>
            <a:off x="7626240" y="173160"/>
            <a:ext cx="1263600" cy="652320"/>
          </a:xfrm>
          <a:prstGeom prst="rect">
            <a:avLst/>
          </a:prstGeom>
          <a:ln w="0">
            <a:noFill/>
          </a:ln>
        </p:spPr>
      </p:pic>
      <p:grpSp>
        <p:nvGrpSpPr>
          <p:cNvPr id="78" name="Rectangle 3"/>
          <p:cNvGrpSpPr/>
          <p:nvPr/>
        </p:nvGrpSpPr>
        <p:grpSpPr>
          <a:xfrm>
            <a:off x="-384120" y="6102360"/>
            <a:ext cx="9912240" cy="1127160"/>
            <a:chOff x="-384120" y="6102360"/>
            <a:chExt cx="9912240" cy="1127160"/>
          </a:xfrm>
        </p:grpSpPr>
        <p:pic>
          <p:nvPicPr>
            <p:cNvPr id="79" name="Rectangle 3" descr=""/>
            <p:cNvPicPr/>
            <p:nvPr/>
          </p:nvPicPr>
          <p:blipFill>
            <a:blip r:embed="rId4"/>
            <a:stretch/>
          </p:blipFill>
          <p:spPr>
            <a:xfrm>
              <a:off x="-384120" y="6102360"/>
              <a:ext cx="99122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6500880"/>
              <a:ext cx="9144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</p:grpSp>
      <p:sp>
        <p:nvSpPr>
          <p:cNvPr id="81" name="TextBox 4"/>
          <p:cNvSpPr/>
          <p:nvPr/>
        </p:nvSpPr>
        <p:spPr>
          <a:xfrm>
            <a:off x="7702560" y="6604560"/>
            <a:ext cx="89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d9b9c"/>
                </a:solidFill>
                <a:latin typeface="Trebuchet MS"/>
              </a:rPr>
              <a:t>PAGE</a:t>
            </a:r>
            <a:endParaRPr b="0" lang="en-US" sz="10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Num" idx="1"/>
          </p:nvPr>
        </p:nvSpPr>
        <p:spPr>
          <a:xfrm>
            <a:off x="8658000" y="6497640"/>
            <a:ext cx="307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d9b9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AC5A2-1DCA-4182-A088-5860BCBA7254}" type="slidenum">
              <a:rPr b="0" lang="en-US" sz="1000" spc="-1" strike="noStrike">
                <a:solidFill>
                  <a:srgbClr val="9d9b9c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b595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59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b595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5b595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5b595a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5b595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5b595a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5b595a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5b595a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b595a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5b595a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b595a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5b59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95a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5b595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95a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nglcc_symbolhalf.wmf"/>
          <p:cNvPicPr/>
          <p:nvPr/>
        </p:nvPicPr>
        <p:blipFill>
          <a:blip r:embed="rId3"/>
          <a:stretch/>
        </p:blipFill>
        <p:spPr>
          <a:xfrm>
            <a:off x="6135840" y="584280"/>
            <a:ext cx="3008160" cy="570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702560" y="6604560"/>
            <a:ext cx="89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d9b9c"/>
                </a:solidFill>
                <a:latin typeface="Trebuchet MS"/>
              </a:rPr>
              <a:t>PAGE</a:t>
            </a:r>
            <a:endParaRPr b="0" lang="en-US" sz="10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159" name="Rounded Rectangle 2"/>
          <p:cNvSpPr/>
          <p:nvPr/>
        </p:nvSpPr>
        <p:spPr>
          <a:xfrm>
            <a:off x="673200" y="1795320"/>
            <a:ext cx="3136680" cy="1900440"/>
          </a:xfrm>
          <a:prstGeom prst="roundRect">
            <a:avLst>
              <a:gd name="adj" fmla="val 9894"/>
            </a:avLst>
          </a:prstGeom>
          <a:solidFill>
            <a:srgbClr val="80bae5"/>
          </a:solidFill>
          <a:ln w="9360">
            <a:solidFill>
              <a:srgbClr val="369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160" name="Rounded Rectangle 3"/>
          <p:cNvSpPr/>
          <p:nvPr/>
        </p:nvSpPr>
        <p:spPr>
          <a:xfrm>
            <a:off x="673200" y="4132440"/>
            <a:ext cx="3136680" cy="1900080"/>
          </a:xfrm>
          <a:prstGeom prst="roundRect">
            <a:avLst>
              <a:gd name="adj" fmla="val 9894"/>
            </a:avLst>
          </a:prstGeom>
          <a:solidFill>
            <a:srgbClr val="80bae5"/>
          </a:solidFill>
          <a:ln w="9360">
            <a:solidFill>
              <a:srgbClr val="369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95a"/>
              </a:solidFill>
              <a:latin typeface="Arial"/>
            </a:endParaRPr>
          </a:p>
        </p:txBody>
      </p:sp>
      <p:pic>
        <p:nvPicPr>
          <p:cNvPr id="161" name="Picture 4" descr="nglcc_symbol_blue.wmf"/>
          <p:cNvPicPr/>
          <p:nvPr/>
        </p:nvPicPr>
        <p:blipFill>
          <a:blip r:embed="rId3"/>
          <a:stretch/>
        </p:blipFill>
        <p:spPr>
          <a:xfrm>
            <a:off x="927000" y="20620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nglcc_symbol_blue.wmf"/>
          <p:cNvPicPr/>
          <p:nvPr/>
        </p:nvPicPr>
        <p:blipFill>
          <a:blip r:embed="rId4"/>
          <a:stretch/>
        </p:blipFill>
        <p:spPr>
          <a:xfrm>
            <a:off x="927000" y="439884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ldNum" idx="2"/>
          </p:nvPr>
        </p:nvSpPr>
        <p:spPr>
          <a:xfrm>
            <a:off x="8658000" y="6497640"/>
            <a:ext cx="307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d9b9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3CF59-B96D-449E-ABE8-26B3429AECF7}" type="slidenum">
              <a:rPr b="0" lang="en-US" sz="1000" spc="-1" strike="noStrike">
                <a:solidFill>
                  <a:srgbClr val="9d9b9c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vezza@nglcc.org" TargetMode="External"/><Relationship Id="rId2" Type="http://schemas.openxmlformats.org/officeDocument/2006/relationships/hyperlink" Target="http://www.nglcc.org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71520" y="5159160"/>
            <a:ext cx="659124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upplier Diversity in the Legal Profess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28480" y="1337760"/>
            <a:ext cx="8074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14240"/>
                </a:solidFill>
                <a:latin typeface="Trebuchet MS"/>
                <a:ea typeface="Trebuchet MS"/>
              </a:rPr>
              <a:t>Strengthen internal diversity initiatives</a:t>
            </a: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14240"/>
                </a:solidFill>
                <a:latin typeface="Trebuchet MS"/>
                <a:ea typeface="Trebuchet MS"/>
              </a:rPr>
              <a:t>Stimulate economic growth for diverse business communities</a:t>
            </a: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14240"/>
                </a:solidFill>
                <a:latin typeface="Trebuchet MS"/>
                <a:ea typeface="Trebuchet MS"/>
              </a:rPr>
              <a:t>Competitive edge within your industry</a:t>
            </a: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14240"/>
                </a:solidFill>
                <a:latin typeface="Trebuchet MS"/>
                <a:ea typeface="Trebuchet MS"/>
              </a:rPr>
              <a:t>Serve as “Prime Supplier” to corporate clients</a:t>
            </a: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14240"/>
                </a:solidFill>
                <a:latin typeface="Trebuchet MS"/>
                <a:ea typeface="Trebuchet MS"/>
              </a:rPr>
              <a:t>Attract and retain corporate contracts</a:t>
            </a: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nefits of supplier diversity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69920" y="1337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14240"/>
                </a:solidFill>
                <a:latin typeface="Trebuchet MS"/>
                <a:ea typeface="Trebuchet MS"/>
              </a:rPr>
              <a:t>NGLCC </a:t>
            </a:r>
            <a:r>
              <a:rPr b="0" lang="en-US" sz="2100" spc="-1" strike="noStrike">
                <a:solidFill>
                  <a:srgbClr val="a04a9c"/>
                </a:solidFill>
                <a:latin typeface="Trebuchet MS"/>
                <a:ea typeface="Trebuchet MS"/>
              </a:rPr>
              <a:t>How-To Guide</a:t>
            </a:r>
            <a:r>
              <a:rPr b="0" lang="en-US" sz="2100" spc="-1" strike="noStrike">
                <a:solidFill>
                  <a:srgbClr val="414240"/>
                </a:solidFill>
                <a:latin typeface="Trebuchet MS"/>
                <a:ea typeface="Trebuchet MS"/>
              </a:rPr>
              <a:t>: Building a Successful Supplier Diversity Program</a:t>
            </a:r>
            <a:endParaRPr b="0" lang="en-US" sz="21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Trebuchet MS"/>
              </a:rPr>
              <a:t>Designed for NGLCC National Legal Partners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Trebuchet MS"/>
              </a:rPr>
              <a:t>Step-by-step process for instituting Supplier Diversity in house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Obtain top-level support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Identifying current suppliers and commodity needs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Attracting new suppliers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Establishing a program team and internal database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Understanding Tier II Opportunities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Trebuchet MS"/>
              </a:rPr>
              <a:t>Setting and reaching goals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3" marL="1893960" indent="-343080">
              <a:spcAft>
                <a:spcPts val="1400"/>
              </a:spcAft>
              <a:buClr>
                <a:srgbClr val="9dbf3b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plementing supplier diversity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nefits for National legal Partners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1520" y="1162080"/>
            <a:ext cx="35272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Visibility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Online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NGLCC Signature Events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Access to Supplier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BIZlink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Matchmaking / Introductions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Vetted lists based on needs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upplier Diversity Events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Peer Education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68904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Legal Industry Council</a:t>
            </a: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4952880" y="1157400"/>
            <a:ext cx="39592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Benchmarking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Annual Spend Report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tate of the Procurement Council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Development Programs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upplier Diversity &amp; ERG Training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National Legal Partnership / Tier II Programming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upplier-focus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Mentorship Program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cholarship Program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  <a:p>
            <a:pPr lvl="1" marL="689040" indent="-343080">
              <a:lnSpc>
                <a:spcPct val="100000"/>
              </a:lnSpc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14240"/>
                </a:solidFill>
                <a:latin typeface="Trebuchet MS"/>
                <a:ea typeface="ＭＳ Ｐゴシック"/>
              </a:rPr>
              <a:t>Supplier Innovation Center</a:t>
            </a:r>
            <a:endParaRPr b="0" lang="en-US" sz="1600" spc="-1" strike="noStrike">
              <a:solidFill>
                <a:srgbClr val="5b59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71440" y="2035080"/>
            <a:ext cx="86011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Trebuchet MS"/>
              </a:rPr>
              <a:t>NGLCC Corporate Partners passed Legal Industry Council </a:t>
            </a:r>
            <a:r>
              <a:rPr b="0" lang="en-US" sz="2000" spc="-1" strike="noStrike">
                <a:solidFill>
                  <a:srgbClr val="9dbf3b"/>
                </a:solidFill>
                <a:latin typeface="Trebuchet MS"/>
                <a:ea typeface="Trebuchet MS"/>
              </a:rPr>
              <a:t>Mission Statement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Trebuchet MS"/>
              </a:rPr>
              <a:t> (August, 2011)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Trebuchet MS"/>
              </a:rPr>
              <a:t>Expectation of outside counsel to mirror diversity practice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Trebuchet MS"/>
              </a:rPr>
              <a:t>Diversity in the </a:t>
            </a:r>
            <a:r>
              <a:rPr b="0" lang="en-US" sz="2000" spc="-1" strike="noStrike">
                <a:solidFill>
                  <a:srgbClr val="a04a9c"/>
                </a:solidFill>
                <a:latin typeface="Trebuchet MS"/>
                <a:ea typeface="Trebuchet MS"/>
              </a:rPr>
              <a:t>RFP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Trebuchet MS"/>
              </a:rPr>
              <a:t> from corporate client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rporate america’s lead</a:t>
            </a: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98400" y="1795320"/>
            <a:ext cx="7005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Aft>
                <a:spcPts val="1599"/>
              </a:spcAft>
              <a:buClr>
                <a:srgbClr val="9dbf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dbf3b"/>
                </a:solidFill>
                <a:latin typeface="Trebuchet MS"/>
                <a:ea typeface="Trebuchet MS"/>
              </a:rPr>
              <a:t>12%</a:t>
            </a:r>
            <a:r>
              <a:rPr b="1" lang="en-US" sz="2400" spc="-1" strike="noStrike">
                <a:solidFill>
                  <a:srgbClr val="41424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414240"/>
                </a:solidFill>
                <a:latin typeface="Trebuchet MS"/>
                <a:ea typeface="Trebuchet MS"/>
              </a:rPr>
              <a:t>of companies’ legal services procurement go through standard corporate procurement channels.</a:t>
            </a:r>
            <a:endParaRPr b="0" lang="en-US" sz="24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a04a9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04a9c"/>
                </a:solidFill>
                <a:latin typeface="Trebuchet MS"/>
                <a:ea typeface="Trebuchet MS"/>
              </a:rPr>
              <a:t>3% </a:t>
            </a:r>
            <a:r>
              <a:rPr b="0" lang="en-US" sz="2400" spc="-1" strike="noStrike">
                <a:solidFill>
                  <a:srgbClr val="414240"/>
                </a:solidFill>
                <a:latin typeface="Trebuchet MS"/>
                <a:ea typeface="Trebuchet MS"/>
              </a:rPr>
              <a:t>of corporate general counsels offices implement their own legal diversity spend goals. </a:t>
            </a:r>
            <a:endParaRPr b="0" lang="en-US" sz="24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9dbf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dbf3b"/>
                </a:solidFill>
                <a:latin typeface="Trebuchet MS"/>
                <a:ea typeface="Trebuchet MS"/>
              </a:rPr>
              <a:t>7% </a:t>
            </a:r>
            <a:r>
              <a:rPr b="0" lang="en-US" sz="2400" spc="-1" strike="noStrike">
                <a:solidFill>
                  <a:srgbClr val="414240"/>
                </a:solidFill>
                <a:latin typeface="Trebuchet MS"/>
                <a:ea typeface="Trebuchet MS"/>
              </a:rPr>
              <a:t>of GCs are aware of the NGLCC National Legal Partnership, which provides access to outside firms that implement, or seek to implement, supplier diversity.</a:t>
            </a:r>
            <a:endParaRPr b="0" lang="en-US" sz="24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necting the dots  </a:t>
            </a: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ull Circle Supplier Diversity</a:t>
            </a:r>
            <a:endParaRPr b="0" lang="en-US" sz="3200" spc="-1" strike="noStrike">
              <a:solidFill>
                <a:srgbClr val="5b595a"/>
              </a:solidFill>
              <a:latin typeface="Trebuchet MS"/>
            </a:endParaRPr>
          </a:p>
        </p:txBody>
      </p:sp>
      <p:pic>
        <p:nvPicPr>
          <p:cNvPr id="255" name="Content Placeholder 10" descr="KayeScholer_LLP(med blue).eps"/>
          <p:cNvPicPr/>
          <p:nvPr/>
        </p:nvPicPr>
        <p:blipFill>
          <a:blip r:embed="rId1"/>
          <a:srcRect l="-3862" t="-430862" r="-84610" b="-578844"/>
          <a:stretch/>
        </p:blipFill>
        <p:spPr>
          <a:xfrm>
            <a:off x="304920" y="1709640"/>
            <a:ext cx="8450280" cy="4318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Toyota.jpg"/>
          <p:cNvPicPr/>
          <p:nvPr/>
        </p:nvPicPr>
        <p:blipFill>
          <a:blip r:embed="rId2"/>
          <a:stretch/>
        </p:blipFill>
        <p:spPr>
          <a:xfrm>
            <a:off x="4605480" y="3979800"/>
            <a:ext cx="3657600" cy="20480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3860640" y="1709640"/>
            <a:ext cx="4572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oudy Old Style"/>
                <a:ea typeface="Goudy Old Style"/>
              </a:rPr>
              <a:t>John E. Osborn P.C.</a:t>
            </a:r>
            <a:endParaRPr b="0" lang="en-US" sz="3500" spc="-1" strike="noStrike">
              <a:solidFill>
                <a:srgbClr val="5b595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Gill Sans MT"/>
              </a:rPr>
              <a:t>attorneys and counselors at law</a:t>
            </a:r>
            <a:endParaRPr b="0" lang="en-US" sz="1800" spc="-1" strike="noStrike">
              <a:solidFill>
                <a:srgbClr val="5b59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rm ENGAGEMENT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42840" y="1606680"/>
            <a:ext cx="72676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Refer LGBT entrepreneurs for certification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Log into BIZlink, locate suppliers to consider when making purchasing decision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Serve as a Site Visitor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Join the National Certification Committee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Mentor an LGBT entrepreneur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Participate in NGLCC event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Join your local NGLCC affiliate 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Support the Supplier Innovation Center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343080" indent="-343080"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Questions?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85600" y="1600200"/>
            <a:ext cx="7343640" cy="49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99960"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For more information:</a:t>
            </a:r>
            <a:endParaRPr b="0" lang="en-US" sz="21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Joshua Vezza, Account Manager, 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Supplier Diversity &amp; National Legal Partnership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a04a9c"/>
                </a:solidFill>
                <a:uFillTx/>
                <a:latin typeface="Trebuchet MS"/>
                <a:ea typeface="MS Reference Sans Serif"/>
                <a:hlinkClick r:id="rId1"/>
              </a:rPr>
              <a:t>jvezza@nglcc.org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MS Reference Sans Serif"/>
                <a:ea typeface="MS Reference Sans Serif"/>
              </a:rPr>
              <a:t>202.234.9181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National Gay &amp; Lesbian Chamber of Commerce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729 15</a:t>
            </a:r>
            <a:r>
              <a:rPr b="0" lang="en-US" sz="2000" spc="-1" strike="noStrike" baseline="30000">
                <a:solidFill>
                  <a:srgbClr val="414240"/>
                </a:solidFill>
                <a:latin typeface="Trebuchet MS"/>
                <a:ea typeface="MS Reference Sans Serif"/>
              </a:rPr>
              <a:t>th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 Street, NW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9</a:t>
            </a:r>
            <a:r>
              <a:rPr b="0" lang="en-US" sz="2000" spc="-1" strike="noStrike" baseline="30000">
                <a:solidFill>
                  <a:srgbClr val="414240"/>
                </a:solidFill>
                <a:latin typeface="Trebuchet MS"/>
                <a:ea typeface="MS Reference Sans Serif"/>
              </a:rPr>
              <a:t>th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 Floor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Washington, DC 20005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a04a9c"/>
                </a:solidFill>
                <a:uFillTx/>
                <a:latin typeface="Trebuchet MS"/>
                <a:ea typeface="MS Reference Sans Serif"/>
                <a:hlinkClick r:id="rId2"/>
              </a:rPr>
              <a:t>www.nglcc.org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53920" y="1572840"/>
            <a:ext cx="734544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Aft>
                <a:spcPts val="1599"/>
              </a:spcAft>
              <a:buClr>
                <a:srgbClr val="a04a9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04a9c"/>
                </a:solidFill>
                <a:latin typeface="Trebuchet MS"/>
                <a:ea typeface="MS Reference Sans Serif"/>
              </a:rPr>
              <a:t>The business advocate and direct link between LGBT business owners, corporations and government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62 affiliates in the U.S. and internationally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More than 29,000 member businesse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140 corporate partner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Offices in Washington DC and New York City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Origin of LGBT Supplier Diversity Initiative 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GLCC At-a-glance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28720" y="1471320"/>
            <a:ext cx="734544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599"/>
              </a:spcAft>
              <a:buClr>
                <a:srgbClr val="5b59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b595a"/>
                </a:solidFill>
                <a:latin typeface="MS Reference Sans Serif"/>
                <a:ea typeface="MS Reference Sans Serif"/>
              </a:rPr>
              <a:t>Total buying power of the U.S. LGBT adult population isestimated to be </a:t>
            </a:r>
            <a:r>
              <a:rPr b="0" lang="en-US" sz="2000" spc="-1" strike="noStrike">
                <a:solidFill>
                  <a:srgbClr val="a04a9c"/>
                </a:solidFill>
                <a:latin typeface="MS Reference Sans Serif"/>
                <a:ea typeface="MS Reference Sans Serif"/>
              </a:rPr>
              <a:t>$790 billion in </a:t>
            </a:r>
            <a:r>
              <a:rPr b="1" lang="en-US" sz="2000" spc="-1" strike="noStrike">
                <a:solidFill>
                  <a:srgbClr val="a04a9c"/>
                </a:solidFill>
                <a:latin typeface="MS Reference Sans Serif"/>
                <a:ea typeface="MS Reference Sans Serif"/>
              </a:rPr>
              <a:t>2011</a:t>
            </a:r>
            <a:r>
              <a:rPr b="0" lang="en-US" sz="2000" spc="-1" strike="noStrike">
                <a:solidFill>
                  <a:srgbClr val="5b595a"/>
                </a:solidFill>
                <a:latin typeface="MS Reference Sans Serif"/>
                <a:ea typeface="MS Reference Sans Serif"/>
              </a:rPr>
              <a:t>. </a:t>
            </a:r>
            <a:r>
              <a:rPr b="0" lang="en-US" sz="2000" spc="-1" strike="noStrike">
                <a:solidFill>
                  <a:srgbClr val="5b595a"/>
                </a:solidFill>
                <a:latin typeface="Trebuchet MS"/>
                <a:ea typeface="MS Reference Sans Serif"/>
              </a:rPr>
              <a:t>(Witeck Communications)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The U.S. LGBT travel market is estimated at </a:t>
            </a:r>
            <a:r>
              <a:rPr b="0" lang="en-US" sz="1800" spc="-1" strike="noStrike">
                <a:solidFill>
                  <a:srgbClr val="a04a9c"/>
                </a:solidFill>
                <a:latin typeface="Trebuchet MS"/>
                <a:ea typeface="MS Reference Sans Serif"/>
              </a:rPr>
              <a:t>$84.5 billion</a:t>
            </a: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, 10% of the total U.S. travel industry, while 83% of LGBT U.S. citizens hold a valid passport, far higher than the average of 34% of americans age 18 and older. (Community Marketing Inc.)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The LGBT population is second to only the African American and Hispanic populations in terms of spending power of a diverse group and is estimated to have about half the population of each. 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The total LGBT population is estimated at 16-20 million people with </a:t>
            </a:r>
            <a:r>
              <a:rPr b="1" lang="en-US" sz="1800" spc="-1" strike="noStrike">
                <a:solidFill>
                  <a:srgbClr val="a04a9c"/>
                </a:solidFill>
                <a:latin typeface="Trebuchet MS"/>
                <a:ea typeface="MS Reference Sans Serif"/>
              </a:rPr>
              <a:t>1.4 million LGBT owned businesses</a:t>
            </a:r>
            <a:r>
              <a:rPr b="0" lang="en-US" sz="1800" spc="-1" strike="noStrike">
                <a:solidFill>
                  <a:srgbClr val="9dbf3b"/>
                </a:solidFill>
                <a:latin typeface="Trebuchet MS"/>
                <a:ea typeface="MS Reference Sans Serif"/>
              </a:rPr>
              <a:t>. </a:t>
            </a:r>
            <a:endParaRPr b="0" lang="en-US" sz="18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spcAft>
                <a:spcPts val="1599"/>
              </a:spcAft>
              <a:buClr>
                <a:srgbClr val="9dbf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spcAft>
                <a:spcPts val="1599"/>
              </a:spcAft>
              <a:buClr>
                <a:srgbClr val="9dbf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spcAft>
                <a:spcPts val="1599"/>
              </a:spcAft>
              <a:buClr>
                <a:srgbClr val="9dbf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GBT Community At-a-glance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Founding Corporate Partners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7259760" y="1143000"/>
            <a:ext cx="653760" cy="42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2"/>
          <a:stretch/>
        </p:blipFill>
        <p:spPr>
          <a:xfrm>
            <a:off x="5433840" y="1684440"/>
            <a:ext cx="1605240" cy="40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"/>
          <p:cNvPicPr/>
          <p:nvPr/>
        </p:nvPicPr>
        <p:blipFill>
          <a:blip r:embed="rId3"/>
          <a:stretch/>
        </p:blipFill>
        <p:spPr>
          <a:xfrm>
            <a:off x="7259760" y="1735200"/>
            <a:ext cx="1342800" cy="342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4"/>
          <a:stretch/>
        </p:blipFill>
        <p:spPr>
          <a:xfrm>
            <a:off x="1808280" y="1100160"/>
            <a:ext cx="474480" cy="474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Motorola.JPG"/>
          <p:cNvPicPr/>
          <p:nvPr/>
        </p:nvPicPr>
        <p:blipFill>
          <a:blip r:embed="rId5"/>
          <a:stretch/>
        </p:blipFill>
        <p:spPr>
          <a:xfrm>
            <a:off x="5433840" y="1163520"/>
            <a:ext cx="1641600" cy="30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6"/>
          <a:stretch/>
        </p:blipFill>
        <p:spPr>
          <a:xfrm>
            <a:off x="8126280" y="1143000"/>
            <a:ext cx="669960" cy="420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1" descr="1Mega_4c_grad.jpg"/>
          <p:cNvPicPr/>
          <p:nvPr/>
        </p:nvPicPr>
        <p:blipFill>
          <a:blip r:embed="rId7"/>
          <a:stretch/>
        </p:blipFill>
        <p:spPr>
          <a:xfrm>
            <a:off x="4452840" y="1515960"/>
            <a:ext cx="650880" cy="64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jpm_chase_logo_final.jpg"/>
          <p:cNvPicPr/>
          <p:nvPr/>
        </p:nvPicPr>
        <p:blipFill>
          <a:blip r:embed="rId8"/>
          <a:stretch/>
        </p:blipFill>
        <p:spPr>
          <a:xfrm>
            <a:off x="2583000" y="1252440"/>
            <a:ext cx="2520720" cy="169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5" descr="WW_RGB logo0910"/>
          <p:cNvPicPr/>
          <p:nvPr/>
        </p:nvPicPr>
        <p:blipFill>
          <a:blip r:embed="rId9"/>
          <a:stretch/>
        </p:blipFill>
        <p:spPr>
          <a:xfrm>
            <a:off x="351000" y="1684440"/>
            <a:ext cx="1574640" cy="35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3" descr="American Airlines"/>
          <p:cNvPicPr/>
          <p:nvPr/>
        </p:nvPicPr>
        <p:blipFill>
          <a:blip r:embed="rId10"/>
          <a:stretch/>
        </p:blipFill>
        <p:spPr>
          <a:xfrm>
            <a:off x="2282760" y="1738440"/>
            <a:ext cx="1893960" cy="182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0"/>
          <p:cNvSpPr/>
          <p:nvPr/>
        </p:nvSpPr>
        <p:spPr>
          <a:xfrm>
            <a:off x="257040" y="2549520"/>
            <a:ext cx="2638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ccentur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cm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DP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I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lbertson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llstat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meriprise Financial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T&amp;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Avi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ank of America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lueCross BlueShield Associatio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lue Cross of California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ristol Farm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ristol-Myers Squibb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Burger Kin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aesars Entertainmen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apital On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arlson Hotels &amp; Resort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artu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DW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entury 21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hevro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hubb Group of Insurance Compani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igna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isco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iti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ldwell Banker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ldwell Banker Commercial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525760" y="2549520"/>
            <a:ext cx="263664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lgate-Palmoliv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mcas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rcora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ornin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ub Food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ummin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VM Solution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CVS Caremark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Darden Restaurant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Debevois &amp; Plimpton LLP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ERA Real Estat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Fannie Ma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Farm Fresh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FedEx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Freddie Mac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Galloway,Johnson,Tompkins,Burr&amp;Smith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GlaxoSmithKline 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Genentech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Goldman Sach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BO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ewlett-Packard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ilton Worldwid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ornbacher</a:t>
            </a:r>
            <a:r>
              <a:rPr b="0" lang="ja-JP" sz="900" spc="-1" strike="noStrike">
                <a:solidFill>
                  <a:srgbClr val="414240"/>
                </a:solidFill>
                <a:latin typeface="Trebuchet MS"/>
              </a:rPr>
              <a:t>’</a:t>
            </a: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yatt Resorts &amp; Hotel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Humana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IN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InterPublic Group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Jewel-Osco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883040" y="2562120"/>
            <a:ext cx="258948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Johnson &amp; Johnso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Kaye Scholer LLP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Kellogg</a:t>
            </a:r>
            <a:r>
              <a:rPr b="0" lang="ja-JP" sz="900" spc="-1" strike="noStrike">
                <a:solidFill>
                  <a:srgbClr val="414240"/>
                </a:solidFill>
                <a:latin typeface="Trebuchet MS"/>
              </a:rPr>
              <a:t>’</a:t>
            </a: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Kimpton Hotels &amp; Restaurant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KPM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LAN Airlin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Levi Strauss &amp; Co.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Limited Brand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Lincoln Financial Group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Luck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arriot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arsh &amp; McLennan Compani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attel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erck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etLif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illerCoor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organ Stanle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Murtha Cullina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ational Grid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BC Universal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ew York Life Insurance Compan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he Nielsen Compan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ovartis Pharmaceuticals Corporatio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R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Office Depo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OfficeMax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PepsiCo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Pfizer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5b595a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7230960" y="25574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Ramada Worldwid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RBC Wealth Managemen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Realog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Renaissance Hotels &amp; Resort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ave A Lo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haw</a:t>
            </a:r>
            <a:r>
              <a:rPr b="0" lang="ja-JP" sz="900" spc="-1" strike="noStrike">
                <a:solidFill>
                  <a:srgbClr val="414240"/>
                </a:solidFill>
                <a:latin typeface="Trebuchet MS"/>
              </a:rPr>
              <a:t>’</a:t>
            </a: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hop </a:t>
            </a:r>
            <a:r>
              <a:rPr b="0" lang="ja-JP" sz="900" spc="-1" strike="noStrike">
                <a:solidFill>
                  <a:srgbClr val="414240"/>
                </a:solidFill>
                <a:latin typeface="Trebuchet MS"/>
              </a:rPr>
              <a:t>‘</a:t>
            </a: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n Save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hopper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otheby</a:t>
            </a:r>
            <a:r>
              <a:rPr b="0" lang="ja-JP" sz="900" spc="-1" strike="noStrike">
                <a:solidFill>
                  <a:srgbClr val="414240"/>
                </a:solidFill>
                <a:latin typeface="Trebuchet MS"/>
              </a:rPr>
              <a:t>’</a:t>
            </a: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 International Realty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outhwest Airlin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taples 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tar Marke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tarwood Hotels and Resort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SUPERVALU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arge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D Bank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LC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oyota Financial Servic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TRG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United Airline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UP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US Bank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Verizon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W Hotels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W Newell &amp; Co.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14240"/>
                </a:solidFill>
                <a:latin typeface="Trebuchet MS"/>
              </a:rPr>
              <a:t>Waste Management</a:t>
            </a:r>
            <a:endParaRPr b="0" lang="en-US" sz="900" spc="-1" strike="noStrike">
              <a:solidFill>
                <a:srgbClr val="5b595a"/>
              </a:solidFill>
              <a:latin typeface="Arial"/>
            </a:endParaRPr>
          </a:p>
        </p:txBody>
      </p:sp>
      <p:pic>
        <p:nvPicPr>
          <p:cNvPr id="220" name="Picture 126" descr="ibmpos_blurgb.jpg"/>
          <p:cNvPicPr/>
          <p:nvPr/>
        </p:nvPicPr>
        <p:blipFill>
          <a:blip r:embed="rId11"/>
          <a:stretch/>
        </p:blipFill>
        <p:spPr>
          <a:xfrm>
            <a:off x="351000" y="1166760"/>
            <a:ext cx="939600" cy="3492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0" y="2176560"/>
            <a:ext cx="9144000" cy="368280"/>
          </a:xfrm>
          <a:prstGeom prst="rect">
            <a:avLst/>
          </a:prstGeom>
          <a:solidFill>
            <a:srgbClr val="5b5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orporate Partners</a:t>
            </a:r>
            <a:endParaRPr b="0" lang="en-US" sz="1800" spc="-1" strike="noStrike">
              <a:solidFill>
                <a:srgbClr val="5b59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7099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isionary National legal partners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pic>
        <p:nvPicPr>
          <p:cNvPr id="223" name="Content Placeholder 10" descr="KayeScholer_LLP(med blue).eps"/>
          <p:cNvPicPr/>
          <p:nvPr/>
        </p:nvPicPr>
        <p:blipFill>
          <a:blip r:embed="rId1"/>
          <a:srcRect l="-56329" t="-200109" r="-58078" b="-1070883"/>
          <a:stretch/>
        </p:blipFill>
        <p:spPr>
          <a:xfrm>
            <a:off x="304920" y="558720"/>
            <a:ext cx="8313480" cy="55674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0" y="2176560"/>
            <a:ext cx="9144000" cy="398880"/>
          </a:xfrm>
          <a:prstGeom prst="rect">
            <a:avLst/>
          </a:prstGeom>
          <a:solidFill>
            <a:srgbClr val="5b5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National Legal Partners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</p:txBody>
      </p:sp>
      <p:pic>
        <p:nvPicPr>
          <p:cNvPr id="225" name="Picture 16" descr="USE IN 2012_GJTBS 25th Ann Logo.jpg"/>
          <p:cNvPicPr/>
          <p:nvPr/>
        </p:nvPicPr>
        <p:blipFill>
          <a:blip r:embed="rId2"/>
          <a:stretch/>
        </p:blipFill>
        <p:spPr>
          <a:xfrm>
            <a:off x="863640" y="3065400"/>
            <a:ext cx="2589120" cy="1443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Debevoise.jpg"/>
          <p:cNvPicPr/>
          <p:nvPr/>
        </p:nvPicPr>
        <p:blipFill>
          <a:blip r:embed="rId3"/>
          <a:stretch/>
        </p:blipFill>
        <p:spPr>
          <a:xfrm>
            <a:off x="863640" y="5126040"/>
            <a:ext cx="6540480" cy="349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Murtha75Address.jpg"/>
          <p:cNvPicPr/>
          <p:nvPr/>
        </p:nvPicPr>
        <p:blipFill>
          <a:blip r:embed="rId4"/>
          <a:stretch/>
        </p:blipFill>
        <p:spPr>
          <a:xfrm>
            <a:off x="5316480" y="2930400"/>
            <a:ext cx="19224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supplier diversity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98400" y="1490400"/>
            <a:ext cx="728496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Supplier Diversity: 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dbf3b"/>
                </a:solidFill>
                <a:latin typeface="Trebuchet MS"/>
                <a:ea typeface="MS Reference Sans Serif"/>
              </a:rPr>
              <a:t>Intentional inclusion of socially and/or economically disadvantaged groups in procurement opportunities.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Role of the Supplier Diversity Professional: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601"/>
              </a:spcAft>
              <a:buClr>
                <a:srgbClr val="a04a9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a04a9c"/>
                </a:solidFill>
                <a:uFillTx/>
                <a:latin typeface="Trebuchet MS"/>
                <a:ea typeface="MS Reference Sans Serif"/>
              </a:rPr>
              <a:t>Advocate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 for strategic sourcing with certified diverse suppliers 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>
              <a:spcAft>
                <a:spcPts val="601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Review procurement pipeline to identify opportunitie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o are diverse suppliers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914400" y="1557360"/>
            <a:ext cx="7284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04a9c"/>
                </a:solidFill>
                <a:latin typeface="Trebuchet MS"/>
              </a:rPr>
              <a:t>Diverse suppliers </a:t>
            </a: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are for-profit businesses that are at least 51% owned, operated and controlled by: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African-American, Hispanic-American, Asian-American, or Native-American 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Women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U.S. Veterans and service-disabled veterans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LGBT persons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</a:rPr>
              <a:t>Persons with disabilities</a:t>
            </a:r>
            <a:endParaRPr b="0" lang="en-US" sz="2000" spc="-1" strike="noStrike">
              <a:solidFill>
                <a:srgbClr val="5b59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76240" y="1587240"/>
            <a:ext cx="7344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Modeled after WBENC &amp; NMSDC certification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Exclusive third party national certification body for LGBT-owned companie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MOUs with Federal Agencies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Eligibility: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04a9c"/>
                </a:solidFill>
                <a:latin typeface="MS Reference Sans Serif"/>
                <a:ea typeface="MS Reference Sans Serif"/>
              </a:rPr>
              <a:t>51% or more Owned, Operated, and Controlled by an LGBT person(s)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14240"/>
                </a:solidFill>
                <a:latin typeface="Trebuchet MS"/>
                <a:ea typeface="MS Reference Sans Serif"/>
              </a:rPr>
              <a:t>Process: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lvl="1" marL="399960">
              <a:lnSpc>
                <a:spcPct val="100000"/>
              </a:lnSpc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dbf3b"/>
                </a:solidFill>
                <a:latin typeface="MS Reference Sans Serif"/>
                <a:ea typeface="MS Reference Sans Serif"/>
              </a:rPr>
              <a:t>	</a:t>
            </a:r>
            <a:r>
              <a:rPr b="0" lang="en-US" sz="2000" spc="-1" strike="noStrike">
                <a:solidFill>
                  <a:srgbClr val="9dbf3b"/>
                </a:solidFill>
                <a:latin typeface="MS Reference Sans Serif"/>
                <a:ea typeface="MS Reference Sans Serif"/>
              </a:rPr>
              <a:t>Online Application -&gt; Send Supporting Documents </a:t>
            </a:r>
            <a:r>
              <a:rPr b="0" lang="en-US" sz="2000" spc="-1" strike="noStrike">
                <a:solidFill>
                  <a:srgbClr val="9dbf3b"/>
                </a:solidFill>
                <a:latin typeface="MS Reference Sans Serif"/>
                <a:ea typeface="MS Reference Sans Serif"/>
              </a:rPr>
              <a:t>	</a:t>
            </a:r>
            <a:r>
              <a:rPr b="0" lang="en-US" sz="2000" spc="-1" strike="noStrike">
                <a:solidFill>
                  <a:srgbClr val="9dbf3b"/>
                </a:solidFill>
                <a:latin typeface="MS Reference Sans Serif"/>
                <a:ea typeface="MS Reference Sans Serif"/>
              </a:rPr>
              <a:t>Site Visit -&gt; Committee Review</a:t>
            </a: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buClr>
                <a:srgbClr val="4142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  <a:p>
            <a:pPr marL="285840" indent="-285840">
              <a:spcAft>
                <a:spcPts val="15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b595a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NGLCC Supplier diversity initiative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98040" y="-360"/>
            <a:ext cx="6705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Completing the Circle of Diversity </a:t>
            </a:r>
            <a:endParaRPr b="0" lang="en-US" sz="2800" spc="-1" strike="noStrike">
              <a:solidFill>
                <a:srgbClr val="5b595a"/>
              </a:solidFill>
              <a:latin typeface="Trebuchet MS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1819440" y="1692360"/>
            <a:ext cx="5545080" cy="4352760"/>
            <a:chOff x="1819440" y="1692360"/>
            <a:chExt cx="5545080" cy="4352760"/>
          </a:xfrm>
        </p:grpSpPr>
        <p:sp>
          <p:nvSpPr>
            <p:cNvPr id="236" name="Freeform 4"/>
            <p:cNvSpPr/>
            <p:nvPr/>
          </p:nvSpPr>
          <p:spPr>
            <a:xfrm>
              <a:off x="3326040" y="1692360"/>
              <a:ext cx="2571840" cy="1292040"/>
            </a:xfrm>
            <a:prstGeom prst="pie">
              <a:avLst/>
            </a:prstGeom>
            <a:solidFill>
              <a:srgbClr val="a04a9c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54440" rIns="154440" tIns="154440" bIns="154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Pro-LGBT Workplace Policies</a:t>
              </a:r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2889360" y="2338200"/>
              <a:ext cx="3444840" cy="344340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3443400"/>
                <a:gd name="textAreaBottom" fmla="*/ 3443760 h 3443400"/>
              </a:gdLst>
              <a:ahLst/>
              <a:rect l="textAreaLeft" t="textAreaTop" r="textAreaRight" b="textAreaBottom"/>
              <a:pathLst>
                <a:path w="3444441" h="3443505">
                  <a:moveTo>
                    <a:pt x="3168245" y="787708"/>
                  </a:moveTo>
                  <a:lnTo>
                    <a:pt x="3168245" y="787708"/>
                  </a:lnTo>
                  <a:arcTo wR="1721830" hR="1721830" stAng="-1971309" swAng="1664343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4840560" y="4172040"/>
              <a:ext cx="2523960" cy="1496880"/>
            </a:xfrm>
            <a:prstGeom prst="pie">
              <a:avLst/>
            </a:prstGeom>
            <a:solidFill>
              <a:srgbClr val="9dbf3b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9400" rIns="149400" tIns="149400" bIns="1494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Buying from the LGBT Community:</a:t>
              </a:r>
              <a:endParaRPr b="0" lang="en-US" sz="2000" spc="-1" strike="noStrike">
                <a:solidFill>
                  <a:srgbClr val="5b595a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GBT Supplier Diversity</a:t>
              </a:r>
              <a:endParaRPr b="0" lang="en-US" sz="2000" spc="-1" strike="noStrike">
                <a:solidFill>
                  <a:srgbClr val="5b595a"/>
                </a:solidFill>
                <a:latin typeface="Arial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2889360" y="2338200"/>
              <a:ext cx="3444840" cy="370692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3706920"/>
                <a:gd name="textAreaBottom" fmla="*/ 3707280 h 3706920"/>
              </a:gdLst>
              <a:ahLst/>
              <a:rect l="textAreaLeft" t="textAreaTop" r="textAreaRight" b="textAreaBottom"/>
              <a:pathLst>
                <a:path w="3444441" h="3707046">
                  <a:moveTo>
                    <a:pt x="2081097" y="3405762"/>
                  </a:moveTo>
                  <a:lnTo>
                    <a:pt x="2081097" y="3405762"/>
                  </a:lnTo>
                  <a:arcTo wR="1721830" hR="1721830" stAng="4677390" swAng="1644359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1819440" y="4210200"/>
              <a:ext cx="2601720" cy="1420560"/>
            </a:xfrm>
            <a:prstGeom prst="pie">
              <a:avLst/>
            </a:prstGeom>
            <a:solidFill>
              <a:srgbClr val="80bae5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60920" rIns="160920" tIns="160920" bIns="160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Marketing to the LGBT Community</a:t>
              </a:r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2889360" y="2338200"/>
              <a:ext cx="3444840" cy="344340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3443400"/>
                <a:gd name="textAreaBottom" fmla="*/ 3443760 h 3443400"/>
              </a:gdLst>
              <a:ahLst/>
              <a:rect l="textAreaLeft" t="textAreaTop" r="textAreaRight" b="textAreaBottom"/>
              <a:pathLst>
                <a:path w="3444441" h="3443505">
                  <a:moveTo>
                    <a:pt x="4360" y="1599362"/>
                  </a:moveTo>
                  <a:lnTo>
                    <a:pt x="4360" y="1599362"/>
                  </a:lnTo>
                  <a:arcTo wR="1721830" hR="1721830" stAng="-10555278" swAng="1712547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95a"/>
                </a:solidFill>
                <a:latin typeface="Arial"/>
              </a:endParaRPr>
            </a:p>
          </p:txBody>
        </p:sp>
      </p:grpSp>
      <p:sp>
        <p:nvSpPr>
          <p:cNvPr id="242" name="TextBox 4"/>
          <p:cNvSpPr/>
          <p:nvPr/>
        </p:nvSpPr>
        <p:spPr>
          <a:xfrm>
            <a:off x="4648320" y="5880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5b595a"/>
                </a:solidFill>
                <a:latin typeface="Calibri"/>
              </a:rPr>
              <a:t>Credibility Counts!</a:t>
            </a:r>
            <a:endParaRPr b="0" lang="en-US" sz="3000" spc="-1" strike="noStrike">
              <a:solidFill>
                <a:srgbClr val="5b59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0:56:39Z</dcterms:created>
  <dc:creator>Danny Jones</dc:creator>
  <dc:description/>
  <dc:language>en-US</dc:language>
  <cp:lastModifiedBy>Joshua Vezza</cp:lastModifiedBy>
  <cp:lastPrinted>2011-12-13T20:30:03Z</cp:lastPrinted>
  <dcterms:modified xsi:type="dcterms:W3CDTF">2012-04-30T20:02:28Z</dcterms:modified>
  <cp:revision>93</cp:revision>
  <dc:subject/>
  <dc:title>Slide 1</dc:title>
</cp:coreProperties>
</file>